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8C6A0-355D-4C61-92C8-F2C951CCD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A66D6-8FCB-40B7-940C-F242BDBA3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C09B4-B6D7-4BB3-8457-2506C879B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19E35-6212-4D8D-AC37-0CC0EFC66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89A76-885B-41A8-A143-FA161D2C1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BB42C-4C48-4528-BA66-463081FDB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15D50-4D74-41EF-B8B0-8689F5773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6D1C0-9F10-477C-AEF6-5419DCE4A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8B3D4-94BA-45C8-9806-85265CE5E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A4E28-3293-4045-9A4D-19757ABE2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3EBCE-F7D7-4E50-A097-16F0ECDB9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FAE5C-C8D9-4359-9FE4-2125E541E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32523-3C06-469E-A2A1-5DD660A7B5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og 72B1</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 – 5 mai 2002</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Eksempler</a:t>
            </a:r>
            <a:endParaRPr b="0" lang="en-US" sz="44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lere lover viser til denne paragrafen, for eksempel § 50(Straffekort) og § 30(Pass utenfor tur). Et eksempel med § 30 er der N-S har rotet seg bort under meldings-forløpet og som gjør at Syd ikke aner hva som foregår. Han melder nå pass når det er Nord sin tur til å melde, og vips er det Nord som fastsetter sluttkontrakten.</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Eksempler</a:t>
            </a:r>
            <a:endParaRPr b="0" lang="en-US" sz="44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t annet klassisk eksempel er der Øst sitter med en meget god farge, men dessverre er det Vest som skal spille ut mot 3 NT. Mens Vest spekulerer, ser spillefører på kortene til blindemann og Øst som har vært på turneringslederkurs, spiller ut utenfor tur. Utspillet må bare aksepteres og sure beter må noteres, eller……….</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Skade ved tvungen pass</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an brukes når makker etter en eller annen paragraf i lovene, tvinges til å si pass. Be spillerne om å fortsette spillet og vurder etter endt spill om spillet skal justeres. ”Kunne ha visst”, blir det springende punkt.</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Justert score</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enne paragrafen gir lovdekning for å justere et spill hvis synderen ”kunne ha visst” at uregelmessigheten skadet motparten og dermed var til egen fordel. Også her skal spillet fortsette og vurderingen komme etterpå.</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Justert score</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 23 og 72B1 er meget like. § 23 omhandler skade ved tvungen pass, mens §72B1 er mye mer omfattende og dekker alle uregelmessigheter der den feilende ”kunne ha visst” at det inntrufne var til egen fordel.</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Justert score</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er mange henvisninger til §§ 23 og 72B1, men merk dere spesielt, at disse 2 paragrafer er selvstendige paragrafer som kan brukes der det måtte passe, henvisning eller ikke.</a:t>
            </a:r>
            <a:endParaRPr b="0" lang="en-US" sz="3200" spc="-1" strike="noStrike">
              <a:solidFill>
                <a:srgbClr val="990000"/>
              </a:solidFill>
              <a:latin typeface="Times New Roman"/>
            </a:endParaRPr>
          </a:p>
          <a:p>
            <a:pPr marL="332640" indent="-3326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kreves altså ikke at en spiller visste, det er nok at en ”flink” spiller kunne ha sett en mulighet for at spillets gang etter uregelmessigheten, utvikler seg til gunst for egen side.</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ksempler på § 23</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n spiller melder psykisk og gjør siden ett eller annet som stopper kjeften på makker. Det kan for eksempel være å ”miste” noen kort på bordet under meldingsforløpet.</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23 Eksempler</a:t>
            </a:r>
            <a:endParaRPr b="0" lang="en-US" sz="44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Et klassisk eksempel er å avgi et utilstrekkelig bud. Med en lang kløverfarge, meld 1 kløver over 1 NT. Motparten benytter seg ikke av retten til å godta, og synderen retter nå til 2 kløver. Makker er utsluttet fra meldingsforløpet og den oppfinnsomme har fått vist kløverfargen selv om paret bruker Astro.</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Eksempler</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t annet eksempel er å åpne med 4 kløver på en lang kløverfarge, bare for å komme på at det viser gående hjerter. Meld nå 5 kløver før VM har fått reagert. Hvis VM ikke godtar budet, er makker sånn passende ”død.”</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Eksempler</a:t>
            </a:r>
            <a:endParaRPr b="0" lang="en-US" sz="4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Nord åpner med 1 hj med 19 HP. Syd melder  Stenberg 2 NT utenfor tur og meldingen går tilbake til Øst som melder 2 kløver. Syd avslutter nå meldingene med 4 hjerter. Hele salen har gått bet i 6 hjerter, men ingen korreksjon da Syd umulig kunne vite at dette var til egen fordel.</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18:50:14Z</dcterms:created>
  <dc:creator> Kyrre Tangen</dc:creator>
  <dc:description/>
  <dc:language>en-US</dc:language>
  <cp:lastModifiedBy>Per Nordland</cp:lastModifiedBy>
  <dcterms:modified xsi:type="dcterms:W3CDTF">2002-05-03T14:20:37Z</dcterms:modified>
  <cp:revision>3</cp:revision>
  <dc:subject/>
  <dc:title>§§ 23 og 72B1</dc:title>
</cp:coreProperties>
</file>